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65FC-69CA-485F-B7AB-6B3599185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367B-6282-46C0-8071-6834F4199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7D41-FF96-47A5-9CC0-56E093CD4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F20C-7061-4F32-910F-DAA26809A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04A4-1FFD-444C-A6A7-1795DE6E5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C3AB-5D01-4E9A-8A10-5FD3A01D1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83D7-6BF7-464E-8283-E851A59680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3625-E18F-48B3-BDB4-F23A849D9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BABF-0CA7-49F2-B105-8E8FA1D47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F257-3C43-4D76-B213-72FE1E3CC6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2DCD-349E-4D67-834E-160E9C63C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A6E7-9805-4E23-8D8F-2F6A9534C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5C88-5096-42A6-904B-C9FFD6180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000D-87E4-4124-A8BA-1F07202AE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C394-4F9F-4625-9D2C-742F9B8F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2D38-2C3D-400E-AEB5-E0623BCA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580D-8196-4D42-B018-287BC6EB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AA23-4681-44FE-97FB-86108346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A89C-3D75-4159-BF9A-53573443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4E9E-145B-4525-8AAC-013623CD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C9A2-E862-4AFF-AD5B-2160FA59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BE55-0B7C-4110-8212-C61CC2D4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86C9-BBD1-42F0-A7C5-67988E77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BEBD-60B0-4F6F-BCA2-3198EF9C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965C-F7F4-4674-B178-1BA49D3C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1C6E-31D2-4F2F-AE63-473EB90E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A2EB-4ED8-4A5A-A0C9-E2F799E3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E069-2E07-4EE5-B96A-815C14EA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EA92-96F0-4C36-A8B2-62CE78BE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2176-A298-4627-A829-693E7C06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CF13-DD90-49FC-9A8D-21A1F880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D8249-51B6-4B24-B50F-9A249980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AE589-ED41-4C90-88DB-6B0E9460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AB296-0676-4B11-9F54-BE7AC416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B3036-8656-4A3B-9B29-2F3A4CAE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1E55B-8831-4944-8678-DA760157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DE98-D0D9-48B9-B286-434C44DA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BD68F-7079-4389-8082-A63107D0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4FE3B-7818-4ABA-BB49-14A6B17A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E0DBD-0E4F-4D60-A28A-70456BA5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0CA8A-E70F-4A51-988B-0D731944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0E1C9-2C77-4C52-8BA8-AFC830BE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2E709-97A8-41B9-A6DC-6788B3C8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9291B-C5BC-45EA-83EE-22148BFA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4BF14-01EB-47B6-BF66-018ADBB7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456C4-3B13-4047-B579-E53D3998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EE434-6D69-4FB1-83A3-DAE597D2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D2C5-B4E0-4A51-B4D1-B9054B7C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D4839-EDC1-4F13-8A31-6E0FFF3A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5916E-DE43-45D6-9DEF-9AF6A66F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BAA4B-5315-487D-83DD-9D6E0C51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97FB9-9F8E-46B5-852A-00C6E7AB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E0A01-BE28-4A90-82D1-8256B119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042A8-5281-4E35-BE58-8793685A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53477-33D6-41E8-8142-D7040A66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970AC-3084-4F53-895E-7265A1FB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7110A-4E2A-472B-9E03-B709FD87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2047C-40EF-41E0-BCFA-5AD18547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21A-566B-4B68-9D4E-CA056735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44198-5EFF-4E87-814B-501FA99F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663CF-FFA9-4871-A96C-54A4268E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A2D81-DB20-4C98-B1FE-B813EB6D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A0FF9-DF76-425C-B402-0F1284DC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DC708-AADA-43CE-851C-2574586D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1CE79-9EB2-4B43-85AF-C942F4A1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F83D6-7FF1-4120-BBA2-17EC9A4E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7BC7D-8834-4FE9-8CB5-12914264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8E20E-AB78-40C9-AF51-73F9C8BC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7C876-629C-4600-A23E-45DB85CA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5439-FF42-4B50-884D-E4EAF908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64B4E-4F62-4893-B4C6-616D0AAD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BCE1-4E01-4790-8826-B43CF664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A9F-2651-43EA-9C30-05191891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1F9-CB8C-4F54-9DA7-47E003DB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0011-FF98-4EF7-8561-88AB4FF8DC0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FCBB-173E-4950-81A2-76E0077C9B4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11FC-9680-435E-A085-7D4FA865E31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2BBF-1CB9-4A42-95FA-FBE7830DF09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0153-B3A3-47BD-8483-E39D1111804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desas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desas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Winter 2012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4-Sight Data Analy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Reading Results / Non-Serviced Student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914400" y="1447920"/>
          <a:ext cx="3749760" cy="2057400"/>
        </p:xfrm>
        <a:graphic>
          <a:graphicData uri="http://schemas.openxmlformats.org/drawingml/2006/table">
            <a:tbl>
              <a:tblPr/>
              <a:tblGrid>
                <a:gridCol w="1249200"/>
                <a:gridCol w="1251000"/>
                <a:gridCol w="124956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Perpetua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933800" y="1447920"/>
          <a:ext cx="3749760" cy="4829040"/>
        </p:xfrm>
        <a:graphic>
          <a:graphicData uri="http://schemas.openxmlformats.org/drawingml/2006/table">
            <a:tbl>
              <a:tblPr/>
              <a:tblGrid>
                <a:gridCol w="1249560"/>
                <a:gridCol w="1251000"/>
                <a:gridCol w="1249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Perpetu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5-Point Star 6"/>
          <p:cNvSpPr/>
          <p:nvPr/>
        </p:nvSpPr>
        <p:spPr>
          <a:xfrm>
            <a:off x="4191120" y="304812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5-Point Star 7"/>
          <p:cNvSpPr/>
          <p:nvPr/>
        </p:nvSpPr>
        <p:spPr>
          <a:xfrm>
            <a:off x="4267080" y="2590920"/>
            <a:ext cx="228600" cy="228600"/>
          </a:xfrm>
          <a:custGeom>
            <a:avLst/>
            <a:gdLst>
              <a:gd name="textAreaLeft" fmla="*/ 70560 w 228600"/>
              <a:gd name="textAreaRight" fmla="*/ 158040 w 22860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5-Point Star 10"/>
          <p:cNvSpPr/>
          <p:nvPr/>
        </p:nvSpPr>
        <p:spPr>
          <a:xfrm>
            <a:off x="8305920" y="259092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5-Point Star 11"/>
          <p:cNvSpPr/>
          <p:nvPr/>
        </p:nvSpPr>
        <p:spPr>
          <a:xfrm>
            <a:off x="8305920" y="297180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5-Point Star 12"/>
          <p:cNvSpPr/>
          <p:nvPr/>
        </p:nvSpPr>
        <p:spPr>
          <a:xfrm>
            <a:off x="8305920" y="335268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5-Point Star 13"/>
          <p:cNvSpPr/>
          <p:nvPr/>
        </p:nvSpPr>
        <p:spPr>
          <a:xfrm>
            <a:off x="8305920" y="373392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5-Point Star 14"/>
          <p:cNvSpPr/>
          <p:nvPr/>
        </p:nvSpPr>
        <p:spPr>
          <a:xfrm>
            <a:off x="8305920" y="411480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5-Point Star 15"/>
          <p:cNvSpPr/>
          <p:nvPr/>
        </p:nvSpPr>
        <p:spPr>
          <a:xfrm>
            <a:off x="8305920" y="449568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5-Point Star 16"/>
          <p:cNvSpPr/>
          <p:nvPr/>
        </p:nvSpPr>
        <p:spPr>
          <a:xfrm>
            <a:off x="8305920" y="487692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5-Point Star 17"/>
          <p:cNvSpPr/>
          <p:nvPr/>
        </p:nvSpPr>
        <p:spPr>
          <a:xfrm>
            <a:off x="8305920" y="518148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5-Point Star 18"/>
          <p:cNvSpPr/>
          <p:nvPr/>
        </p:nvSpPr>
        <p:spPr>
          <a:xfrm>
            <a:off x="8305920" y="556272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5-Point Star 19"/>
          <p:cNvSpPr/>
          <p:nvPr/>
        </p:nvSpPr>
        <p:spPr>
          <a:xfrm>
            <a:off x="8305920" y="594360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Reading Remediation with Mrs. Snyder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80880" y="1447920"/>
          <a:ext cx="4283280" cy="4343400"/>
        </p:xfrm>
        <a:graphic>
          <a:graphicData uri="http://schemas.openxmlformats.org/drawingml/2006/table">
            <a:tbl>
              <a:tblPr/>
              <a:tblGrid>
                <a:gridCol w="1071720"/>
                <a:gridCol w="1069920"/>
                <a:gridCol w="982800"/>
                <a:gridCol w="11588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Perpetua"/>
                        </a:rPr>
                        <a:t>rd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800600" y="1447920"/>
          <a:ext cx="4114800" cy="4343400"/>
        </p:xfrm>
        <a:graphic>
          <a:graphicData uri="http://schemas.openxmlformats.org/drawingml/2006/table">
            <a:tbl>
              <a:tblPr/>
              <a:tblGrid>
                <a:gridCol w="1201680"/>
                <a:gridCol w="855720"/>
                <a:gridCol w="838080"/>
                <a:gridCol w="1219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Perpetua"/>
                        </a:rPr>
                        <a:t>th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5-Point Star 9"/>
          <p:cNvSpPr/>
          <p:nvPr/>
        </p:nvSpPr>
        <p:spPr>
          <a:xfrm>
            <a:off x="3124080" y="541008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5-Point Star 10"/>
          <p:cNvSpPr/>
          <p:nvPr/>
        </p:nvSpPr>
        <p:spPr>
          <a:xfrm>
            <a:off x="3200400" y="487692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5-Point Star 11"/>
          <p:cNvSpPr/>
          <p:nvPr/>
        </p:nvSpPr>
        <p:spPr>
          <a:xfrm>
            <a:off x="7391520" y="3809880"/>
            <a:ext cx="304560" cy="30492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5-Point Star 12"/>
          <p:cNvSpPr/>
          <p:nvPr/>
        </p:nvSpPr>
        <p:spPr>
          <a:xfrm>
            <a:off x="7315200" y="3276720"/>
            <a:ext cx="304920" cy="30456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Math Results IEP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914400" y="1143000"/>
          <a:ext cx="3749760" cy="3343320"/>
        </p:xfrm>
        <a:graphic>
          <a:graphicData uri="http://schemas.openxmlformats.org/drawingml/2006/table">
            <a:tbl>
              <a:tblPr/>
              <a:tblGrid>
                <a:gridCol w="1249200"/>
                <a:gridCol w="1251000"/>
                <a:gridCol w="12495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Perpetua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4952880" y="990720"/>
          <a:ext cx="3749760" cy="5200560"/>
        </p:xfrm>
        <a:graphic>
          <a:graphicData uri="http://schemas.openxmlformats.org/drawingml/2006/table">
            <a:tbl>
              <a:tblPr/>
              <a:tblGrid>
                <a:gridCol w="1249560"/>
                <a:gridCol w="1251000"/>
                <a:gridCol w="1249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Perpetu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Math Results / Non-Serviced Student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"/>
          <p:cNvSpPr/>
          <p:nvPr/>
        </p:nvSpPr>
        <p:spPr>
          <a:xfrm>
            <a:off x="380880" y="251280"/>
            <a:ext cx="8305920" cy="61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4-Sight Data Analysis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1/27/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Predicted Proficiency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Test Results – Student 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Listed by Performance Level – Use this fo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DATA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Check to see if any students are missing or do not have scores lis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Item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Item Analysis Worksheet –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Calibri"/>
              </a:rPr>
              <a:t>Fill out and post to Q-Drive by 2/3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Questions covered prior to 1/12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Did students meet the Proficiency %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NO – Cover again with new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YES – How close were they?  If they just made it, revisit the conce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Questions NOT covered prior to 1/12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Check for increase or decrease of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Develop a timeline to cover th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Check wording and format of questions and make sure you provide instruction that is ident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to that wording and form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Resou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SAS, PDE Practice Questions, Coach Books, Study 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Student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Review this with the students.  Discuss your action plan with the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Attach Parent Explanation Letter and review results at Parent Teacher Confer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Parent Le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Franklin Gothic Book"/>
              </a:rPr>
              <a:t>2011-2012 AYP Goals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374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Perpetua"/>
              </a:rPr>
              <a:t>Proficiency Goal = 81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4-Sight 9/11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Perpetua"/>
              </a:rPr>
              <a:t>3</a:t>
            </a:r>
            <a:r>
              <a:rPr b="1" lang="en-US" sz="2400" spc="-1" strike="noStrike" baseline="30000">
                <a:solidFill>
                  <a:srgbClr val="00b050"/>
                </a:solidFill>
                <a:latin typeface="Perpetua"/>
              </a:rPr>
              <a:t>rd</a:t>
            </a:r>
            <a:r>
              <a:rPr b="1" lang="en-US" sz="2400" spc="-1" strike="noStrike">
                <a:solidFill>
                  <a:srgbClr val="00b050"/>
                </a:solidFill>
                <a:latin typeface="Perpetua"/>
              </a:rPr>
              <a:t> – 72.55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Perpetua"/>
              </a:rPr>
              <a:t>4</a:t>
            </a:r>
            <a:r>
              <a:rPr b="1" lang="en-US" sz="2400" spc="-1" strike="noStrike" baseline="30000">
                <a:solidFill>
                  <a:srgbClr val="00b0f0"/>
                </a:solidFill>
                <a:latin typeface="Perpetua"/>
              </a:rPr>
              <a:t>th</a:t>
            </a:r>
            <a:r>
              <a:rPr b="1" lang="en-US" sz="2400" spc="-1" strike="noStrike">
                <a:solidFill>
                  <a:srgbClr val="00b0f0"/>
                </a:solidFill>
                <a:latin typeface="Perpetua"/>
              </a:rPr>
              <a:t> – 51.52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Perpetua"/>
              </a:rPr>
              <a:t>Bldg. – 62.03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4-Sight 1/12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Perpetua"/>
              </a:rPr>
              <a:t>3</a:t>
            </a:r>
            <a:r>
              <a:rPr b="1" lang="en-US" sz="2400" spc="-1" strike="noStrike" baseline="30000">
                <a:solidFill>
                  <a:srgbClr val="00b050"/>
                </a:solidFill>
                <a:latin typeface="Perpetua"/>
              </a:rPr>
              <a:t>rd</a:t>
            </a:r>
            <a:r>
              <a:rPr b="1" lang="en-US" sz="2400" spc="-1" strike="noStrike">
                <a:solidFill>
                  <a:srgbClr val="00b050"/>
                </a:solidFill>
                <a:latin typeface="Perpetua"/>
              </a:rPr>
              <a:t> – 88.89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Perpetua"/>
              </a:rPr>
              <a:t>4</a:t>
            </a:r>
            <a:r>
              <a:rPr b="1" lang="en-US" sz="2400" spc="-1" strike="noStrike" baseline="30000">
                <a:solidFill>
                  <a:srgbClr val="00b0f0"/>
                </a:solidFill>
                <a:latin typeface="Perpetua"/>
              </a:rPr>
              <a:t>th</a:t>
            </a:r>
            <a:r>
              <a:rPr b="1" lang="en-US" sz="2400" spc="-1" strike="noStrike">
                <a:solidFill>
                  <a:srgbClr val="00b0f0"/>
                </a:solidFill>
                <a:latin typeface="Perpetua"/>
              </a:rPr>
              <a:t> – 77.55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Perpetua"/>
              </a:rPr>
              <a:t>Bldg. – 83.22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933800" y="1447920"/>
            <a:ext cx="374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Math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Perpetua"/>
              </a:rPr>
              <a:t>Proficiency Goal = 78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4-Sight 9/11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Perpetua"/>
              </a:rPr>
              <a:t>3</a:t>
            </a:r>
            <a:r>
              <a:rPr b="1" lang="en-US" sz="2400" spc="-1" strike="noStrike" baseline="30000">
                <a:solidFill>
                  <a:srgbClr val="00b050"/>
                </a:solidFill>
                <a:latin typeface="Perpetua"/>
              </a:rPr>
              <a:t>rd</a:t>
            </a:r>
            <a:r>
              <a:rPr b="1" lang="en-US" sz="2400" spc="-1" strike="noStrike">
                <a:solidFill>
                  <a:srgbClr val="00b050"/>
                </a:solidFill>
                <a:latin typeface="Perpetua"/>
              </a:rPr>
              <a:t> – 31.31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Perpetua"/>
              </a:rPr>
              <a:t>4</a:t>
            </a:r>
            <a:r>
              <a:rPr b="1" lang="en-US" sz="2400" spc="-1" strike="noStrike" baseline="30000">
                <a:solidFill>
                  <a:srgbClr val="00b0f0"/>
                </a:solidFill>
                <a:latin typeface="Perpetua"/>
              </a:rPr>
              <a:t>th</a:t>
            </a:r>
            <a:r>
              <a:rPr b="1" lang="en-US" sz="2400" spc="-1" strike="noStrike">
                <a:solidFill>
                  <a:srgbClr val="00b0f0"/>
                </a:solidFill>
                <a:latin typeface="Perpetua"/>
              </a:rPr>
              <a:t> – 22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Perpetua"/>
              </a:rPr>
              <a:t>Bldg. – 26.66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4-Sight 1/12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Perpetua"/>
              </a:rPr>
              <a:t>3</a:t>
            </a:r>
            <a:r>
              <a:rPr b="1" lang="en-US" sz="2400" spc="-1" strike="noStrike" baseline="30000">
                <a:solidFill>
                  <a:srgbClr val="00b050"/>
                </a:solidFill>
                <a:latin typeface="Perpetua"/>
              </a:rPr>
              <a:t>rd</a:t>
            </a:r>
            <a:r>
              <a:rPr b="1" lang="en-US" sz="2400" spc="-1" strike="noStrike">
                <a:solidFill>
                  <a:srgbClr val="00b050"/>
                </a:solidFill>
                <a:latin typeface="Perpetua"/>
              </a:rPr>
              <a:t> – 63.37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Perpetua"/>
              </a:rPr>
              <a:t>4</a:t>
            </a:r>
            <a:r>
              <a:rPr b="1" lang="en-US" sz="2400" spc="-1" strike="noStrike" baseline="30000">
                <a:solidFill>
                  <a:srgbClr val="00b0f0"/>
                </a:solidFill>
                <a:latin typeface="Perpetua"/>
              </a:rPr>
              <a:t>th</a:t>
            </a:r>
            <a:r>
              <a:rPr b="1" lang="en-US" sz="2400" spc="-1" strike="noStrike">
                <a:solidFill>
                  <a:srgbClr val="00b0f0"/>
                </a:solidFill>
                <a:latin typeface="Perpetua"/>
              </a:rPr>
              <a:t> – 54.08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Perpetua"/>
              </a:rPr>
              <a:t>Bldg. – 58.72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80880" y="441360"/>
          <a:ext cx="8610840" cy="5807160"/>
        </p:xfrm>
        <a:graphic>
          <a:graphicData uri="http://schemas.openxmlformats.org/drawingml/2006/table">
            <a:tbl>
              <a:tblPr/>
              <a:tblGrid>
                <a:gridCol w="924120"/>
                <a:gridCol w="1528560"/>
                <a:gridCol w="1357560"/>
                <a:gridCol w="1303200"/>
                <a:gridCol w="1149480"/>
                <a:gridCol w="2347920"/>
              </a:tblGrid>
              <a:tr h="117792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bjec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em # that was below the Proficiency % Target – Check box if concept will be covered prior to 1/12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ficiency  % Targe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r 2011-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of students Proficien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n item 9/11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of students Proficient on item 1/12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rvention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See Below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Text Box 32"/>
          <p:cNvSpPr/>
          <p:nvPr/>
        </p:nvSpPr>
        <p:spPr>
          <a:xfrm>
            <a:off x="380880" y="0"/>
            <a:ext cx="845820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Sight Data Analysis / Item Analysis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1"/>
          <p:cNvSpPr/>
          <p:nvPr/>
        </p:nvSpPr>
        <p:spPr>
          <a:xfrm>
            <a:off x="2438280" y="434340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0"/>
          <p:cNvSpPr/>
          <p:nvPr/>
        </p:nvSpPr>
        <p:spPr>
          <a:xfrm>
            <a:off x="2438280" y="373392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9"/>
          <p:cNvSpPr/>
          <p:nvPr/>
        </p:nvSpPr>
        <p:spPr>
          <a:xfrm>
            <a:off x="2438280" y="594360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8"/>
          <p:cNvSpPr/>
          <p:nvPr/>
        </p:nvSpPr>
        <p:spPr>
          <a:xfrm>
            <a:off x="2438280" y="495288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2438280" y="533412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6"/>
          <p:cNvSpPr/>
          <p:nvPr/>
        </p:nvSpPr>
        <p:spPr>
          <a:xfrm>
            <a:off x="2438280" y="304812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5"/>
          <p:cNvSpPr/>
          <p:nvPr/>
        </p:nvSpPr>
        <p:spPr>
          <a:xfrm>
            <a:off x="2438280" y="274320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2438280" y="464832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3"/>
          <p:cNvSpPr/>
          <p:nvPr/>
        </p:nvSpPr>
        <p:spPr>
          <a:xfrm>
            <a:off x="2438280" y="563868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2"/>
          <p:cNvSpPr/>
          <p:nvPr/>
        </p:nvSpPr>
        <p:spPr>
          <a:xfrm>
            <a:off x="2438280" y="403848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1"/>
          <p:cNvSpPr/>
          <p:nvPr/>
        </p:nvSpPr>
        <p:spPr>
          <a:xfrm>
            <a:off x="2438280" y="167652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2438280" y="205740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2438280" y="335268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2438280" y="236232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3"/>
          <p:cNvSpPr/>
          <p:nvPr/>
        </p:nvSpPr>
        <p:spPr>
          <a:xfrm>
            <a:off x="0" y="6162120"/>
            <a:ext cx="119635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**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Interventio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: SAS Lessons (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must use at least 2 from SAS Website-  </a:t>
            </a:r>
            <a:r>
              <a:rPr b="0" lang="en-US" sz="1100" spc="-1" strike="noStrike" u="sng">
                <a:solidFill>
                  <a:srgbClr val="cc9900"/>
                </a:solidFill>
                <a:uFillTx/>
                <a:latin typeface="Arial"/>
                <a:ea typeface="Calibri"/>
                <a:hlinkClick r:id="rId1"/>
              </a:rPr>
              <a:t>www.pdesas.or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), COACH Books, Teacher created lessons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Study Island, Lessons and Online resources from Math and Reading Textbooks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Please fill this out and submit the original to the office by October 14, 201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914400"/>
          <a:ext cx="8763120" cy="5462640"/>
        </p:xfrm>
        <a:graphic>
          <a:graphicData uri="http://schemas.openxmlformats.org/drawingml/2006/table">
            <a:tbl>
              <a:tblPr/>
              <a:tblGrid>
                <a:gridCol w="870120"/>
                <a:gridCol w="1569960"/>
                <a:gridCol w="1393560"/>
                <a:gridCol w="1339920"/>
                <a:gridCol w="1177920"/>
                <a:gridCol w="2411640"/>
              </a:tblGrid>
              <a:tr h="97956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bjec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em # that was below the Proficiency % Tar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ficiency  % Targe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r 2011-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of students Profici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n item 9/11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of students Proficient on item 1/12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rvention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See Belo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Text Box 1"/>
          <p:cNvSpPr/>
          <p:nvPr/>
        </p:nvSpPr>
        <p:spPr>
          <a:xfrm>
            <a:off x="685800" y="152280"/>
            <a:ext cx="737244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  <a:ea typeface="Calibri"/>
              </a:rPr>
              <a:t>4-Sight Data Analysis / Item Analysis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235440" y="6259680"/>
            <a:ext cx="8850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**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Interventio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: SAS Lessons (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must use at least 2 from SAS Website-  </a:t>
            </a:r>
            <a:r>
              <a:rPr b="0" lang="en-US" sz="1100" spc="-1" strike="noStrike" u="sng">
                <a:solidFill>
                  <a:srgbClr val="cc9900"/>
                </a:solidFill>
                <a:uFillTx/>
                <a:latin typeface="Arial"/>
                <a:ea typeface="Calibri"/>
                <a:hlinkClick r:id="rId1"/>
              </a:rPr>
              <a:t>www.pdesas.or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), COACH Books, Teacher created lessons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Study Island, Lessons and Online resources from Math and Reading Textbooks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Please fill this out and submit the original to the office by October 14, 201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1523880" y="685800"/>
            <a:ext cx="914400" cy="914400"/>
          </a:xfrm>
          <a:prstGeom prst="rect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1600200" y="2057400"/>
            <a:ext cx="9144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5-Point Star 3"/>
          <p:cNvSpPr/>
          <p:nvPr/>
        </p:nvSpPr>
        <p:spPr>
          <a:xfrm>
            <a:off x="1523880" y="342900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2743200" y="6858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achieved little to no gains, or decreased in score from Test 1 to Test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2971800" y="20574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achieved significant gains from Test 1 to Test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3200400" y="3733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just made Pro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Franklin Gothic Book"/>
              </a:rPr>
              <a:t>Reading Results – IEP Students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952880" y="838080"/>
          <a:ext cx="3749760" cy="5097600"/>
        </p:xfrm>
        <a:graphic>
          <a:graphicData uri="http://schemas.openxmlformats.org/drawingml/2006/table">
            <a:tbl>
              <a:tblPr/>
              <a:tblGrid>
                <a:gridCol w="1249560"/>
                <a:gridCol w="1251000"/>
                <a:gridCol w="1249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Perpetu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Gr.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990720" y="914400"/>
          <a:ext cx="3749400" cy="5111640"/>
        </p:xfrm>
        <a:graphic>
          <a:graphicData uri="http://schemas.openxmlformats.org/drawingml/2006/table">
            <a:tbl>
              <a:tblPr/>
              <a:tblGrid>
                <a:gridCol w="1249200"/>
                <a:gridCol w="1251000"/>
                <a:gridCol w="124920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Perpetua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Grade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asic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 /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 /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4952880" y="6248520"/>
          <a:ext cx="3733920" cy="431640"/>
        </p:xfrm>
        <a:graphic>
          <a:graphicData uri="http://schemas.openxmlformats.org/drawingml/2006/table">
            <a:tbl>
              <a:tblPr/>
              <a:tblGrid>
                <a:gridCol w="1244880"/>
                <a:gridCol w="1244520"/>
                <a:gridCol w="12445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5-Point Star 14"/>
          <p:cNvSpPr/>
          <p:nvPr/>
        </p:nvSpPr>
        <p:spPr>
          <a:xfrm>
            <a:off x="4114800" y="3429000"/>
            <a:ext cx="380880" cy="304920"/>
          </a:xfrm>
          <a:custGeom>
            <a:avLst/>
            <a:gdLst>
              <a:gd name="textAreaLeft" fmla="*/ 117720 w 380880"/>
              <a:gd name="textAreaRight" fmla="*/ 263160 w 38088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81000" h="304800">
                <a:moveTo>
                  <a:pt x="0" y="116423"/>
                </a:moveTo>
                <a:lnTo>
                  <a:pt x="145530" y="116424"/>
                </a:lnTo>
                <a:lnTo>
                  <a:pt x="190500" y="0"/>
                </a:lnTo>
                <a:lnTo>
                  <a:pt x="235470" y="116424"/>
                </a:lnTo>
                <a:lnTo>
                  <a:pt x="381000" y="116423"/>
                </a:lnTo>
                <a:lnTo>
                  <a:pt x="263263" y="188376"/>
                </a:lnTo>
                <a:lnTo>
                  <a:pt x="308236" y="304799"/>
                </a:lnTo>
                <a:lnTo>
                  <a:pt x="190500" y="232845"/>
                </a:lnTo>
                <a:lnTo>
                  <a:pt x="72764" y="304799"/>
                </a:lnTo>
                <a:lnTo>
                  <a:pt x="117737" y="18837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5-Point Star 15"/>
          <p:cNvSpPr/>
          <p:nvPr/>
        </p:nvSpPr>
        <p:spPr>
          <a:xfrm>
            <a:off x="8229600" y="586728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29200" y="1523880"/>
            <a:ext cx="10666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Franklin Gothic Book"/>
              </a:rPr>
              <a:t>Reading Results – TITLE I 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38080" y="777960"/>
          <a:ext cx="3749760" cy="5873760"/>
        </p:xfrm>
        <a:graphic>
          <a:graphicData uri="http://schemas.openxmlformats.org/drawingml/2006/table">
            <a:tbl>
              <a:tblPr/>
              <a:tblGrid>
                <a:gridCol w="1249560"/>
                <a:gridCol w="1251000"/>
                <a:gridCol w="12492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Perpetua"/>
                        </a:rPr>
                        <a:t>rd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Gr. Stu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952880" y="762120"/>
          <a:ext cx="3749760" cy="5100480"/>
        </p:xfrm>
        <a:graphic>
          <a:graphicData uri="http://schemas.openxmlformats.org/drawingml/2006/table">
            <a:tbl>
              <a:tblPr/>
              <a:tblGrid>
                <a:gridCol w="1249560"/>
                <a:gridCol w="1251000"/>
                <a:gridCol w="124920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Perpetu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Grade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ing Results EL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914400" y="1447920"/>
          <a:ext cx="3749760" cy="2057400"/>
        </p:xfrm>
        <a:graphic>
          <a:graphicData uri="http://schemas.openxmlformats.org/drawingml/2006/table">
            <a:tbl>
              <a:tblPr/>
              <a:tblGrid>
                <a:gridCol w="1249200"/>
                <a:gridCol w="1251000"/>
                <a:gridCol w="12495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Perpetua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4933800" y="1447920"/>
          <a:ext cx="3749760" cy="3349440"/>
        </p:xfrm>
        <a:graphic>
          <a:graphicData uri="http://schemas.openxmlformats.org/drawingml/2006/table">
            <a:tbl>
              <a:tblPr/>
              <a:tblGrid>
                <a:gridCol w="1249560"/>
                <a:gridCol w="1251000"/>
                <a:gridCol w="124920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Perpetu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80" name="5-Point Star 6"/>
          <p:cNvSpPr/>
          <p:nvPr/>
        </p:nvSpPr>
        <p:spPr>
          <a:xfrm>
            <a:off x="8077320" y="4343400"/>
            <a:ext cx="380880" cy="304920"/>
          </a:xfrm>
          <a:custGeom>
            <a:avLst/>
            <a:gdLst>
              <a:gd name="textAreaLeft" fmla="*/ 117720 w 380880"/>
              <a:gd name="textAreaRight" fmla="*/ 263160 w 38088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81000" h="304800">
                <a:moveTo>
                  <a:pt x="0" y="116423"/>
                </a:moveTo>
                <a:lnTo>
                  <a:pt x="145530" y="116424"/>
                </a:lnTo>
                <a:lnTo>
                  <a:pt x="190500" y="0"/>
                </a:lnTo>
                <a:lnTo>
                  <a:pt x="235470" y="116424"/>
                </a:lnTo>
                <a:lnTo>
                  <a:pt x="381000" y="116423"/>
                </a:lnTo>
                <a:lnTo>
                  <a:pt x="263263" y="188376"/>
                </a:lnTo>
                <a:lnTo>
                  <a:pt x="308236" y="304799"/>
                </a:lnTo>
                <a:lnTo>
                  <a:pt x="190500" y="232845"/>
                </a:lnTo>
                <a:lnTo>
                  <a:pt x="72764" y="304799"/>
                </a:lnTo>
                <a:lnTo>
                  <a:pt x="117737" y="18837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7:25:16Z</dcterms:created>
  <dc:creator>demaior</dc:creator>
  <dc:description/>
  <dc:language>en-US</dc:language>
  <cp:lastModifiedBy>Christina Lutz-Doemling</cp:lastModifiedBy>
  <dcterms:modified xsi:type="dcterms:W3CDTF">2012-04-19T20:03:20Z</dcterms:modified>
  <cp:revision>48</cp:revision>
  <dc:subject/>
  <dc:title>4-Sight Data Analysis</dc:title>
</cp:coreProperties>
</file>